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FC1-CBDB-48D9-B17C-E27B73CE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15A-C987-4BD3-8101-61E2AC42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24D-F13F-4317-A5E7-7654BC18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35B-8B5B-49E8-9122-B2EDCE1A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D350-9172-49D1-AD13-7679766D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6567-6351-42A4-B735-D0E73788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62A4-2D87-4328-A407-4EABC725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41E6-DA58-4454-8C0A-0117A766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AEAB-B272-4BE5-B6F3-6E734021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A2E4-DD51-4420-8312-8DB59A1D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2337-4220-4C2F-8726-9445CB9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909-0351-43E9-B0D8-C5892F6D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6482-6B83-437C-A26C-EB7FAEC9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ECC2-38BB-4C5D-884B-351097F2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E693-FA5B-4803-A824-6B66F4EB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F8B3-EA19-4D82-A918-00304DAF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EA42-1238-429F-BBC9-089E1801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C52-4663-4EE8-8350-013CCFAD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516-C615-4816-B938-A1998CC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A6B-E22E-4B45-9D2B-0A7002E4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137-D60D-43A2-A13D-2EED5B5F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92F-77ED-4396-8FD4-AFA578B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41B-73C6-4F8E-B920-DCAE6948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A69-EAB1-4956-A1AF-6F3E524F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E3D8-3263-47CE-84C7-9A2B7AF535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1845-6188-497B-B308-F15C9D8187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xtraordinary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y 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ing good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inue 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Gothic impression of 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-8/2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ording to a newspaper in Franklin county ohio dog names used a lot in that county include Lady, Bear Maggie and Brandy the dogs name used the most is Ma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utherford B. Hayes the nineteenth president of the United States was born in Delaware Ohio in 1822 and following a quiet dramatic election became president in 1877 at age of 5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nesia:Remember::___________:slee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rnful:Grief:: ____________:furi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 French Fry She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she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 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elements of Gothic fi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 about yesterda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nstances of foreshadowing can you find in this tale? Start with the tit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unusual about the history of the Usher fami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e’s narrators are often deranged murderers or crazy men…like Roderick Usher. Why do you think he chose to have a nameless, sane narrator tell this tale, rather than Usher himself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roblem does Roderick begin to discuss with the narrato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s to think about as we read today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kind of illness does Roderick suffer from?  What are his symptoms?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kind of illness does his sister Madeline Usher have?  What are her symptoms?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are the qualities of Roderick's paintings?  What example does the narrator describe?  What do you think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it means?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Roderick's song "The Haunted Palace" the narrator says he first perceived Roderick's awareness of "th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ottering of his lofty reason upon her throne."  What does the narrator mean?  What story does the song tell?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is the meaning of this story and what does it suggest about Roderick's mental state?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-Essay ques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swer the following question in at least two paragraph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 what ways does the state of the house reflect the mental state of the people that live in it? Use specific examples from the stor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8:47:03Z</dcterms:created>
  <dc:creator>VMS</dc:creator>
  <dc:description/>
  <dc:language>en-US</dc:language>
  <cp:lastModifiedBy>VMS</cp:lastModifiedBy>
  <dcterms:modified xsi:type="dcterms:W3CDTF">2009-08-26T18:25:57Z</dcterms:modified>
  <cp:revision>3</cp:revision>
  <dc:subject/>
  <dc:title>Extraordinary English</dc:title>
</cp:coreProperties>
</file>